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ct" ContentType="image/x-pict"/>
  <Override PartName="/ppt/media/image5.png" ContentType="image/png"/>
  <Override PartName="/ppt/media/image10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F52E0D3-6EF3-49BA-881A-3B554DA9D60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outer team is hoping to achie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tial &amp; information is going back to the coach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6880" y="4597200"/>
            <a:ext cx="551340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bration of what is happening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6880" y="4597200"/>
            <a:ext cx="551340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ant to improve student 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 to different learning styles in T &amp;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along this journey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eachers in SMR  this is their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uld mention Maths/Science focu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lso curriculum innovation (tailor this for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28880" y="727200"/>
            <a:ext cx="4833720" cy="36255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9080" y="4594320"/>
            <a:ext cx="5050080" cy="435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used a range of models to underpin everything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way to ensure that goals are achie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focusing on these thre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ve been to 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that high implementation of changed teaching practice through co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ve process where all teach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where teacher and build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to schools A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chee develops their foc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8760" cy="3629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&amp; Learning in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ng &amp; unp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79640" y="6526080"/>
            <a:ext cx="716436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921600">
            <a:off x="-108000" y="50734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24606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333360"/>
            <a:ext cx="9144000" cy="142920"/>
          </a:xfrm>
          <a:prstGeom prst="rect">
            <a:avLst/>
          </a:prstGeom>
          <a:solidFill>
            <a:srgbClr val="a8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8720" y="64674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Jan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The Role of the Teaching and Learning 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780000" cy="283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67520" y="66204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877000"/>
            <a:ext cx="8568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97"/>
                </a:moveTo>
                <a:lnTo>
                  <a:pt x="5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2040" y="5749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What Coaching Is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700280"/>
            <a:ext cx="712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n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sp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acher Apprai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0" b="9311"/>
          <a:stretch/>
        </p:blipFill>
        <p:spPr>
          <a:xfrm>
            <a:off x="3203640" y="836640"/>
            <a:ext cx="2984400" cy="561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42920" y="522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Don’t know what you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40035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You know what you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2860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You have to think about it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04000" y="2060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Using a skill wit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having to think abou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41300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Arial"/>
              </a:rPr>
              <a:t>Successful but can’t explain to others what they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960" y="47628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ordon’s Skill Development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907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Tal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04000" y="170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S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900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Consciously 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S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619440"/>
            <a:ext cx="34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Consciously Uns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k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8434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Unconsciously Uns</a:t>
            </a:r>
            <a:r>
              <a:rPr b="0" lang="en-AU" sz="2400" spc="-1" strike="noStrike">
                <a:solidFill>
                  <a:srgbClr val="0066cc"/>
                </a:solidFill>
                <a:latin typeface="Arial"/>
                <a:ea typeface="Arial"/>
              </a:rPr>
              <a:t>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50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3908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8560" y="2971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1747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634920" y="5084640"/>
            <a:ext cx="57636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563640" y="3141720"/>
            <a:ext cx="57636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3860640"/>
            <a:ext cx="5032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92720" y="1916280"/>
            <a:ext cx="503280" cy="72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2205000"/>
            <a:ext cx="358920" cy="719280"/>
          </a:xfrm>
          <a:prstGeom prst="downArrow">
            <a:avLst>
              <a:gd name="adj1" fmla="val 50000"/>
              <a:gd name="adj2" fmla="val 501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0991600">
            <a:off x="2410920" y="2421000"/>
            <a:ext cx="3456000" cy="358560"/>
          </a:xfrm>
          <a:prstGeom prst="rightArrow">
            <a:avLst>
              <a:gd name="adj1" fmla="val 50000"/>
              <a:gd name="adj2" fmla="val 24096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317080" y="122400"/>
            <a:ext cx="7236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280" y="765000"/>
            <a:ext cx="89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Verdana"/>
                <a:ea typeface="Arial"/>
              </a:rPr>
              <a:t>Outcomes of a Successful Coaching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55640" y="2133720"/>
            <a:ext cx="5048280" cy="1511280"/>
            <a:chOff x="755640" y="2133720"/>
            <a:chExt cx="5048280" cy="1511280"/>
          </a:xfrm>
        </p:grpSpPr>
        <p:sp>
          <p:nvSpPr>
            <p:cNvPr id="122" name=""/>
            <p:cNvSpPr/>
            <p:nvPr/>
          </p:nvSpPr>
          <p:spPr>
            <a:xfrm>
              <a:off x="3138480" y="2783160"/>
              <a:ext cx="26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cc"/>
                  </a:solidFill>
                  <a:latin typeface="Comic Sans MS"/>
                  <a:ea typeface="Arial"/>
                </a:rPr>
                <a:t>Op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127656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2916360" y="1484280"/>
            <a:ext cx="5040360" cy="1914840"/>
            <a:chOff x="2916360" y="1484280"/>
            <a:chExt cx="5040360" cy="1914840"/>
          </a:xfrm>
        </p:grpSpPr>
        <p:sp>
          <p:nvSpPr>
            <p:cNvPr id="125" name=""/>
            <p:cNvSpPr/>
            <p:nvPr/>
          </p:nvSpPr>
          <p:spPr>
            <a:xfrm>
              <a:off x="2916360" y="1842840"/>
              <a:ext cx="3240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cc"/>
                  </a:solidFill>
                  <a:latin typeface="Curlz MT"/>
                  <a:ea typeface="Arial"/>
                </a:rPr>
                <a:t>Celebration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732720" y="1484280"/>
              <a:ext cx="1224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2195640" y="3429000"/>
            <a:ext cx="6192720" cy="1004760"/>
            <a:chOff x="2195640" y="3429000"/>
            <a:chExt cx="6192720" cy="1004760"/>
          </a:xfrm>
        </p:grpSpPr>
        <p:sp>
          <p:nvSpPr>
            <p:cNvPr id="128" name=""/>
            <p:cNvSpPr/>
            <p:nvPr/>
          </p:nvSpPr>
          <p:spPr>
            <a:xfrm>
              <a:off x="2195640" y="3573360"/>
              <a:ext cx="48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66cc"/>
                  </a:solidFill>
                  <a:latin typeface="Franklin Gothic Demi"/>
                  <a:ea typeface="Arial"/>
                </a:rPr>
                <a:t>Conscious practi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7307280" y="3429000"/>
              <a:ext cx="10810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684360" y="4653000"/>
            <a:ext cx="7057800" cy="728640"/>
            <a:chOff x="684360" y="4653000"/>
            <a:chExt cx="7057800" cy="728640"/>
          </a:xfrm>
        </p:grpSpPr>
        <p:pic>
          <p:nvPicPr>
            <p:cNvPr id="131" name="" descr=""/>
            <p:cNvPicPr/>
            <p:nvPr/>
          </p:nvPicPr>
          <p:blipFill>
            <a:blip r:embed="rId4"/>
            <a:stretch/>
          </p:blipFill>
          <p:spPr>
            <a:xfrm>
              <a:off x="684360" y="4653000"/>
              <a:ext cx="100800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981080" y="4653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cc"/>
                  </a:solidFill>
                  <a:latin typeface="Arial"/>
                  <a:ea typeface="Arial"/>
                </a:rPr>
                <a:t>Effective professional lear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2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If you want to feel secure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Do what you already know how to do.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But if you want to grow...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Go to the cutting edge of your competence, which means a temporary loss of security.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o, whenever you don't quite know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What you are doing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Know that you are growin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2160" indent="0">
              <a:spcBef>
                <a:spcPts val="1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iscott, D: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Risking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Pocket Publishing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5120" y="2800440"/>
            <a:ext cx="43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19040"/>
            <a:ext cx="640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33cc"/>
                </a:solidFill>
                <a:latin typeface="Verdana"/>
                <a:ea typeface="Arial"/>
              </a:rPr>
              <a:t>SMR Coaching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42960" y="1197000"/>
            <a:ext cx="6224760" cy="4392720"/>
            <a:chOff x="1542960" y="1197000"/>
            <a:chExt cx="6224760" cy="4392720"/>
          </a:xfrm>
        </p:grpSpPr>
        <p:sp>
          <p:nvSpPr>
            <p:cNvPr id="137" name=""/>
            <p:cNvSpPr txBox="1"/>
            <p:nvPr/>
          </p:nvSpPr>
          <p:spPr>
            <a:xfrm>
              <a:off x="2268360" y="1197000"/>
              <a:ext cx="4992840" cy="936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3399ff"/>
                    </a:solidFill>
                    <a:miter/>
                  </a:ln>
                  <a:solidFill>
                    <a:srgbClr val="3366ff"/>
                  </a:solidFill>
                  <a:latin typeface="Arial Rounded MT Bold"/>
                </a:rPr>
                <a:t>Building the Relationship</a:t>
              </a:r>
              <a:endPara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7280" y="2349360"/>
              <a:ext cx="19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Look Forward an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92360" y="2349360"/>
              <a:ext cx="1425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Look Back and Lea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24360" y="4365720"/>
              <a:ext cx="118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Rounded MT Bold"/>
                  <a:ea typeface="Arial"/>
                </a:rPr>
                <a:t>Action “COGS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626920" y="1628640"/>
              <a:ext cx="4177080" cy="720720"/>
              <a:chOff x="2626920" y="1628640"/>
              <a:chExt cx="4177080" cy="720720"/>
            </a:xfrm>
          </p:grpSpPr>
          <p:sp>
            <p:nvSpPr>
              <p:cNvPr id="142" name=""/>
              <p:cNvSpPr/>
              <p:nvPr/>
            </p:nvSpPr>
            <p:spPr>
              <a:xfrm>
                <a:off x="2905560" y="1628640"/>
                <a:ext cx="3898440" cy="629280"/>
              </a:xfrm>
              <a:custGeom>
                <a:avLst/>
                <a:gdLst>
                  <a:gd name="textAreaLeft" fmla="*/ 682200 w 3898440"/>
                  <a:gd name="textAreaRight" fmla="*/ 2826360 w 3898440"/>
                  <a:gd name="textAreaTop" fmla="*/ 84240 h 629280"/>
                  <a:gd name="textAreaBottom" fmla="*/ 545040 h 62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66240" y="2078280"/>
                <a:ext cx="97452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0800000">
                <a:off x="2626920" y="2077920"/>
                <a:ext cx="1461960" cy="2696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0800000">
                <a:off x="5177520" y="2061720"/>
                <a:ext cx="1461960" cy="2696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42960" y="2813040"/>
              <a:ext cx="2509920" cy="2557440"/>
              <a:chOff x="1542960" y="2813040"/>
              <a:chExt cx="2509920" cy="2557440"/>
            </a:xfrm>
          </p:grpSpPr>
          <p:sp>
            <p:nvSpPr>
              <p:cNvPr id="147" name=""/>
              <p:cNvSpPr/>
              <p:nvPr/>
            </p:nvSpPr>
            <p:spPr>
              <a:xfrm rot="13837200">
                <a:off x="1368360" y="3691080"/>
                <a:ext cx="2650680" cy="801360"/>
              </a:xfrm>
              <a:custGeom>
                <a:avLst/>
                <a:gdLst>
                  <a:gd name="textAreaLeft" fmla="*/ 463680 w 2650680"/>
                  <a:gd name="textAreaRight" fmla="*/ 1921680 w 2650680"/>
                  <a:gd name="textAreaTop" fmla="*/ 107280 h 801360"/>
                  <a:gd name="textAreaBottom" fmla="*/ 694080 h 80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837200">
                <a:off x="3319200" y="4542120"/>
                <a:ext cx="662400" cy="34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3037200">
                <a:off x="3107520" y="4488480"/>
                <a:ext cx="99432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3037200">
                <a:off x="1991520" y="3160800"/>
                <a:ext cx="99396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969080" y="2847240"/>
              <a:ext cx="2385360" cy="2709000"/>
              <a:chOff x="4969080" y="2847240"/>
              <a:chExt cx="2385360" cy="2709000"/>
            </a:xfrm>
          </p:grpSpPr>
          <p:sp>
            <p:nvSpPr>
              <p:cNvPr id="152" name=""/>
              <p:cNvSpPr/>
              <p:nvPr/>
            </p:nvSpPr>
            <p:spPr>
              <a:xfrm rot="7959600">
                <a:off x="4836240" y="3909240"/>
                <a:ext cx="2650680" cy="801360"/>
              </a:xfrm>
              <a:custGeom>
                <a:avLst/>
                <a:gdLst>
                  <a:gd name="textAreaLeft" fmla="*/ 463680 w 2650680"/>
                  <a:gd name="textAreaRight" fmla="*/ 1921680 w 2650680"/>
                  <a:gd name="textAreaTop" fmla="*/ 107280 h 801360"/>
                  <a:gd name="textAreaBottom" fmla="*/ 694080 h 80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959600">
                <a:off x="6314400" y="3103560"/>
                <a:ext cx="662400" cy="34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8759600">
                <a:off x="6100920" y="3157200"/>
                <a:ext cx="99432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8759600">
                <a:off x="4941000" y="4446360"/>
                <a:ext cx="993960" cy="34344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 txBox="1"/>
            <p:nvPr/>
          </p:nvSpPr>
          <p:spPr>
            <a:xfrm>
              <a:off x="2124000" y="4437000"/>
              <a:ext cx="4992840" cy="115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3399ff"/>
                    </a:solidFill>
                    <a:miter/>
                  </a:ln>
                  <a:solidFill>
                    <a:srgbClr val="3366ff"/>
                  </a:solidFill>
                  <a:latin typeface="Arial Rounded MT Bold"/>
                </a:rPr>
                <a:t>Embedding New Practice</a:t>
              </a:r>
              <a:endParaRPr b="0" lang="en-US" sz="3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66ff"/>
                </a:solidFill>
                <a:latin typeface="Arial Rounded MT Bold"/>
                <a:ea typeface="Arial Rounded MT Bold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708360" y="278136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Improved Teache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MIGHT THE COACHEE’S  FOCUS FOR COACHING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1916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Teacher Actions and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301932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udent Action and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41241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Lesson Characteri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522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056240"/>
            <a:ext cx="4895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Here is Edward Bear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Coming downstairs now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ump, bump, bump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On the back of his head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ehind Christopher Robi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It is, as far as he know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The only way of coming downstair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But sometimes he fe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That there really is another way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If only he could stop bumping for a mo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  <a:ea typeface="Arial"/>
              </a:rPr>
              <a:t>And think of it . . 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580000" y="2421000"/>
          <a:ext cx="331164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421000"/>
                    <a:ext cx="33116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“…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.committed to ensuring that every young person achieves success through the provision of a high quality education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99"/>
                </a:solidFill>
                <a:latin typeface="Arial"/>
              </a:rPr>
              <a:t>Innovation &amp; Excellence 2008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eaching and Learning Coaches will work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collaboratively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build the capacity of teacher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3200" spc="-1" strike="noStrike">
                <a:solidFill>
                  <a:srgbClr val="333399"/>
                </a:solidFill>
                <a:latin typeface="Arial"/>
              </a:rPr>
              <a:t>in identified schools to support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0000"/>
                </a:solidFill>
                <a:latin typeface="Arial"/>
              </a:rPr>
              <a:t>improvement in student learning outcom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76720" y="2665440"/>
            <a:ext cx="1595160" cy="1630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Effective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44720" y="936720"/>
            <a:ext cx="5978160" cy="5238360"/>
            <a:chOff x="1044720" y="936720"/>
            <a:chExt cx="5978160" cy="5238360"/>
          </a:xfrm>
        </p:grpSpPr>
        <p:sp>
          <p:nvSpPr>
            <p:cNvPr id="64" name=""/>
            <p:cNvSpPr/>
            <p:nvPr/>
          </p:nvSpPr>
          <p:spPr>
            <a:xfrm>
              <a:off x="3223440" y="936720"/>
              <a:ext cx="158292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1. Professional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Lead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70640" y="2204640"/>
              <a:ext cx="494640" cy="506160"/>
            </a:xfrm>
            <a:prstGeom prst="upArrow">
              <a:avLst>
                <a:gd name="adj1" fmla="val 50000"/>
                <a:gd name="adj2" fmla="val 49743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23440" y="4960800"/>
              <a:ext cx="158292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5. High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expectations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of all lear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3770640" y="4412880"/>
              <a:ext cx="494640" cy="506160"/>
            </a:xfrm>
            <a:prstGeom prst="upArrow">
              <a:avLst>
                <a:gd name="adj1" fmla="val 50000"/>
                <a:gd name="adj2" fmla="val 49743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71680" y="147672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2. Focus on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Teaching &amp;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3000000">
              <a:off x="4583880" y="2574720"/>
              <a:ext cx="505800" cy="49500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4720" y="2933640"/>
              <a:ext cx="1583280" cy="1214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7. Learning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Commun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2689200" y="3285720"/>
              <a:ext cx="505800" cy="49464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39960" y="2935440"/>
              <a:ext cx="158292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3. Purposeful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Tea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4860720" y="3286080"/>
              <a:ext cx="505800" cy="49500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38640" y="437904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4. Shared Vision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 &amp; Go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8100000">
              <a:off x="4609800" y="4040640"/>
              <a:ext cx="494640" cy="505800"/>
            </a:xfrm>
            <a:prstGeom prst="upArrow">
              <a:avLst>
                <a:gd name="adj1" fmla="val 50000"/>
                <a:gd name="adj2" fmla="val 4970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3800000">
              <a:off x="2913480" y="4013280"/>
              <a:ext cx="505800" cy="494640"/>
            </a:xfrm>
            <a:prstGeom prst="upArrow">
              <a:avLst>
                <a:gd name="adj1" fmla="val 50000"/>
                <a:gd name="adj2" fmla="val 48611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09680" y="437904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6. Account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4840" y="1476720"/>
              <a:ext cx="1583280" cy="1213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8. Stimulating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and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secure learning </a:t>
              </a:r>
              <a:br>
                <a:rPr sz="1400"/>
              </a:b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900000">
              <a:off x="2959920" y="2568960"/>
              <a:ext cx="494640" cy="505800"/>
            </a:xfrm>
            <a:prstGeom prst="upArrow">
              <a:avLst>
                <a:gd name="adj1" fmla="val 50000"/>
                <a:gd name="adj2" fmla="val 4970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24000" y="982800"/>
            <a:ext cx="7127640" cy="5398920"/>
          </a:xfrm>
          <a:custGeom>
            <a:avLst/>
            <a:gdLst/>
            <a:ahLst/>
            <a:rect l="l" t="t" r="r" b="b"/>
            <a:pathLst>
              <a:path w="6056" h="4544">
                <a:moveTo>
                  <a:pt x="718" y="575"/>
                </a:moveTo>
                <a:cubicBezTo>
                  <a:pt x="952" y="0"/>
                  <a:pt x="1603" y="45"/>
                  <a:pt x="1943" y="393"/>
                </a:cubicBezTo>
                <a:cubicBezTo>
                  <a:pt x="2283" y="741"/>
                  <a:pt x="2222" y="2245"/>
                  <a:pt x="2759" y="2661"/>
                </a:cubicBezTo>
                <a:cubicBezTo>
                  <a:pt x="3296" y="3077"/>
                  <a:pt x="4649" y="2714"/>
                  <a:pt x="5163" y="2888"/>
                </a:cubicBezTo>
                <a:cubicBezTo>
                  <a:pt x="5677" y="3062"/>
                  <a:pt x="6056" y="3432"/>
                  <a:pt x="5844" y="3704"/>
                </a:cubicBezTo>
                <a:cubicBezTo>
                  <a:pt x="5632" y="3976"/>
                  <a:pt x="4778" y="4498"/>
                  <a:pt x="3893" y="4521"/>
                </a:cubicBezTo>
                <a:cubicBezTo>
                  <a:pt x="3008" y="4544"/>
                  <a:pt x="1074" y="4499"/>
                  <a:pt x="537" y="3841"/>
                </a:cubicBezTo>
                <a:cubicBezTo>
                  <a:pt x="0" y="3183"/>
                  <a:pt x="484" y="1150"/>
                  <a:pt x="718" y="575"/>
                </a:cubicBezTo>
                <a:close/>
              </a:path>
            </a:pathLst>
          </a:custGeom>
          <a:solidFill>
            <a:srgbClr val="80008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5800" y="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Sel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earch suggests coaching has the most profound and sustained impact on teach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460520"/>
            <a:ext cx="190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26920" y="2421000"/>
          <a:ext cx="7620120" cy="30747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INING ST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nowledge Mast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ill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sroom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heory (Le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iddle/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ow/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419720" y="551592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earch by Bruce Joyce and Beverly Showe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y Coac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roving teaching &amp; 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 and promoting the exchange of ideas through collaborative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ing profession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couraging teachers to reflect deeply about their work and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ponding to the school’s Annual Implementation Plan and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To convey a valued person from where he or she is to where he or she wants to b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red,Rogers D. and James C.Selma ,1989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aching and the Art of Management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ganizational Dynamics,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rincessAnne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1520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Coach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teacher and coach having the opportunity and time to discuss, observe and reflect on one aspect of teach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ffirming strengths in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goo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ing opportunity for professional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moting the exchange of good idea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eaking dow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ing the demands of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confidenti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08:15Z</dcterms:created>
  <dc:creator>DE&amp;T User</dc:creator>
  <dc:description/>
  <dc:language>en-US</dc:language>
  <cp:lastModifiedBy>Department of Education - Victoria</cp:lastModifiedBy>
  <dcterms:modified xsi:type="dcterms:W3CDTF">2008-02-22T03:04:19Z</dcterms:modified>
  <cp:revision>43</cp:revision>
  <dc:subject/>
  <dc:title>Slide 1</dc:title>
</cp:coreProperties>
</file>